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4B00B-6608-4721-BFA5-FE065D262704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C3167-9A79-4888-92A2-D3B69F148A1A}" type="slidenum"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2127-D082-4EE8-B08E-3C2F8E99E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3E7E-6B7E-4B2A-8B1B-791EDDDC6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CA71-A56C-4E9C-96F1-4DE8C6E93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793A-5DA1-43AE-8F22-1A5C993F9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BAB4B-9BAE-4BF3-9857-D6C71F124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1A0B4-92F8-4F4B-B82E-99DEAAD21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4E305-665D-4CF6-8262-6DA597BD8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2B444-4F55-4D7E-A1AC-4C281C475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C6459-6AE6-4D09-A601-BAAEE8108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093A6-6F08-47A2-B76E-28C9798B6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02682-56F1-461E-B4BE-862F3A4D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1F89-A4F1-4C49-BEB1-418536DE2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35F1F-A18A-4821-8A9A-3B8B18E8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30B36-B03E-4A6D-86EC-96A1FA84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F6553-E45F-468F-A28E-8481D6940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DCFE3-0026-48B9-922B-383CAD955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ED96D-60F5-48A6-B2BC-768FDCA05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21A5-CF43-4B5C-94CC-2DC5B7CCA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BC35-60FB-4B2D-BE41-0B0B0A156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FE4A-AC3E-440A-BB91-74181F024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4DBF-FAF4-44B5-A4D7-DFE40AF39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4F8B-41B0-4898-A8B4-45411A13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602B-2F04-49C7-860F-961CFA4C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ED52-5018-499C-A361-C8E6980A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bcbc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3B73E-2C32-4395-B13F-F38E925024BD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39393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39393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bcbc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97108-086D-403E-A565-51DE49DA0F0F}" type="slidenum">
              <a:rPr b="0" lang="en-CA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istory of Atomic Mode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3276720" y="3645000"/>
            <a:ext cx="309564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Picture 15" descr="Image result for atomic model"/>
          <p:cNvPicPr/>
          <p:nvPr/>
        </p:nvPicPr>
        <p:blipFill>
          <a:blip r:embed="rId1"/>
          <a:stretch/>
        </p:blipFill>
        <p:spPr>
          <a:xfrm>
            <a:off x="2987640" y="2637000"/>
            <a:ext cx="2571840" cy="2885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7" descr="Image result for atomic model"/>
          <p:cNvPicPr/>
          <p:nvPr/>
        </p:nvPicPr>
        <p:blipFill>
          <a:blip r:embed="rId2"/>
          <a:stretch/>
        </p:blipFill>
        <p:spPr>
          <a:xfrm>
            <a:off x="324000" y="29368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3" descr="Image result for atomic model schrodinger"/>
          <p:cNvPicPr/>
          <p:nvPr/>
        </p:nvPicPr>
        <p:blipFill>
          <a:blip r:embed="rId3"/>
          <a:stretch/>
        </p:blipFill>
        <p:spPr>
          <a:xfrm>
            <a:off x="6084720" y="2911320"/>
            <a:ext cx="259092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C:\My Documents\School\sc9\thomson model.gif"/>
          <p:cNvPicPr/>
          <p:nvPr/>
        </p:nvPicPr>
        <p:blipFill>
          <a:blip r:embed="rId1"/>
          <a:stretch/>
        </p:blipFill>
        <p:spPr>
          <a:xfrm>
            <a:off x="0" y="587520"/>
            <a:ext cx="9144000" cy="62704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"/>
          <p:cNvSpPr/>
          <p:nvPr/>
        </p:nvSpPr>
        <p:spPr>
          <a:xfrm>
            <a:off x="1752480" y="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lum-Pudding Mod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0" y="6400800"/>
            <a:ext cx="472428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rnest Rutherfor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3" descr="C:\My Documents\School\sc9\rutherford.jpg"/>
          <p:cNvPicPr/>
          <p:nvPr/>
        </p:nvPicPr>
        <p:blipFill>
          <a:blip r:embed="rId1"/>
          <a:stretch/>
        </p:blipFill>
        <p:spPr>
          <a:xfrm>
            <a:off x="2789280" y="1847880"/>
            <a:ext cx="366228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utherford Gold Foil (Geiger Muller) Experimen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rnest Rutherford proposed shooting alpha particles at extremely thin gold foi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t went right through with little deflection, but some bounced bac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result was thought to be like cannon balls bouncing off tissue paper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https://upload.wikimedia.org/wikipedia/commons/thumb/f/f9/Geiger-Marsden_experiment_expectation_and_result.svg/1024px-Geiger-Marsden_experiment_expectation_and_result.svg.png"/>
          <p:cNvPicPr/>
          <p:nvPr/>
        </p:nvPicPr>
        <p:blipFill>
          <a:blip r:embed="rId1"/>
          <a:stretch/>
        </p:blipFill>
        <p:spPr>
          <a:xfrm>
            <a:off x="1193760" y="692280"/>
            <a:ext cx="6253200" cy="5832360"/>
          </a:xfrm>
          <a:prstGeom prst="rect">
            <a:avLst/>
          </a:prstGeom>
          <a:ln w="0">
            <a:noFill/>
          </a:ln>
        </p:spPr>
      </p:pic>
      <p:sp>
        <p:nvSpPr>
          <p:cNvPr id="125" name="TextBox 1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pha particles should be undeflected but observed to bounce b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utherford Atomic Mod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alpha particles must have bounced off an area of the atom that is positively charged and extremely dens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utherford concluded that the atom has a dense positive nucleus with electrons orbiting aroun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utherford Model of the Atom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8" descr="Image result for rutherford model"/>
          <p:cNvPicPr/>
          <p:nvPr/>
        </p:nvPicPr>
        <p:blipFill>
          <a:blip r:embed="rId1"/>
          <a:stretch/>
        </p:blipFill>
        <p:spPr>
          <a:xfrm>
            <a:off x="539640" y="1197000"/>
            <a:ext cx="762012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iels Boh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3" descr="C:\My Documents\School\sc9\bohr.jpg"/>
          <p:cNvPicPr/>
          <p:nvPr/>
        </p:nvPicPr>
        <p:blipFill>
          <a:blip r:embed="rId1"/>
          <a:stretch/>
        </p:blipFill>
        <p:spPr>
          <a:xfrm>
            <a:off x="4114800" y="765000"/>
            <a:ext cx="4013280" cy="53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ohr Model 1913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ight (electromagnetic radiation) is emitted from matter at particular energies, or quanta (from Planck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ight is produced when electrons move from high energy states to low energy states. E=hf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lectrons exist in particular orbit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ohr Energy E=-13.6eV/n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the energy of the emitted photon when an electron drops from the 3rd to the first orbital?  What is the wavelength?  is it visibl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6" descr="Image result for bohr energy levels"/>
          <p:cNvPicPr/>
          <p:nvPr/>
        </p:nvPicPr>
        <p:blipFill>
          <a:blip r:embed="rId1"/>
          <a:stretch/>
        </p:blipFill>
        <p:spPr>
          <a:xfrm>
            <a:off x="1258920" y="-47520"/>
            <a:ext cx="7273800" cy="69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Related image"/>
          <p:cNvPicPr/>
          <p:nvPr/>
        </p:nvPicPr>
        <p:blipFill>
          <a:blip r:embed="rId1"/>
          <a:stretch/>
        </p:blipFill>
        <p:spPr>
          <a:xfrm>
            <a:off x="-12600" y="176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Image result for kanada atomic theory"/>
          <p:cNvPicPr/>
          <p:nvPr/>
        </p:nvPicPr>
        <p:blipFill>
          <a:blip r:embed="rId2"/>
          <a:stretch/>
        </p:blipFill>
        <p:spPr>
          <a:xfrm>
            <a:off x="4356000" y="2492280"/>
            <a:ext cx="191952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Image result for de broglie atomic theory"/>
          <p:cNvPicPr/>
          <p:nvPr/>
        </p:nvPicPr>
        <p:blipFill>
          <a:blip r:embed="rId1"/>
          <a:stretch/>
        </p:blipFill>
        <p:spPr>
          <a:xfrm>
            <a:off x="-27000" y="-206280"/>
            <a:ext cx="9631440" cy="72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Image result for de broglie atomic theory"/>
          <p:cNvPicPr/>
          <p:nvPr/>
        </p:nvPicPr>
        <p:blipFill>
          <a:blip r:embed="rId1"/>
          <a:stretch/>
        </p:blipFill>
        <p:spPr>
          <a:xfrm>
            <a:off x="28440" y="0"/>
            <a:ext cx="9007560" cy="675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1"/>
          <p:cNvSpPr/>
          <p:nvPr/>
        </p:nvSpPr>
        <p:spPr>
          <a:xfrm>
            <a:off x="468360" y="260280"/>
            <a:ext cx="763272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 Broglie said that electrons act like waves.  Waves resonate if the frequency is just right for the  container (musical instrument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rbital is the container for the electron and only certain orbitals will work for electrons of a certain energ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wavelength of a particle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h/p plank’s constant divided by its momentu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 Broglie derived this relationship fro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=hf, the energy of a photon and p=E/c =h/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e momentum of a photon so that the wave-particle duality that Einstein applied to photons also applied to partic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odern Atomic Mod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antum Mechanics shows how there is a limit to our ability to determine the motion and position of particles. (Heisenberg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motion of objects is described using a wave equation, </a:t>
            </a:r>
            <a:r>
              <a:rPr b="0" lang="en-CA" sz="28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where </a:t>
            </a:r>
            <a:r>
              <a:rPr b="0" lang="en-CA" sz="28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CA" sz="2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the probability distribution of the object.  Graphing </a:t>
            </a:r>
            <a:r>
              <a:rPr b="0" lang="en-CA" sz="28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CA" sz="2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an electron around the hydrogen atom we obtain orbital shapes. (Schrödinger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6" descr="Image result for orbitals s p d f"/>
          <p:cNvPicPr/>
          <p:nvPr/>
        </p:nvPicPr>
        <p:blipFill>
          <a:blip r:embed="rId1"/>
          <a:stretch/>
        </p:blipFill>
        <p:spPr>
          <a:xfrm>
            <a:off x="-1440" y="0"/>
            <a:ext cx="929484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9" descr="Image result for atomic model schrodinger"/>
          <p:cNvPicPr/>
          <p:nvPr/>
        </p:nvPicPr>
        <p:blipFill>
          <a:blip r:embed="rId1"/>
          <a:stretch/>
        </p:blipFill>
        <p:spPr>
          <a:xfrm>
            <a:off x="1619280" y="944640"/>
            <a:ext cx="626580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dwick 1931 discovered that the nucleus contains protons and neutr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tons and neutrons are composed of quarks (1964 Gell-Mann and Zweig)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trong force between the quarks is what holds the nucleus together and produces massive amounts of energy in a nuclear reaction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side the Nucleu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mework p1049 q 46-48, 54,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5" descr="Image result for atomic model schrodinger"/>
          <p:cNvPicPr/>
          <p:nvPr/>
        </p:nvPicPr>
        <p:blipFill>
          <a:blip r:embed="rId1"/>
          <a:stretch/>
        </p:blipFill>
        <p:spPr>
          <a:xfrm>
            <a:off x="324000" y="1760400"/>
            <a:ext cx="825660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2" descr="Image result for history of atom"/>
          <p:cNvPicPr/>
          <p:nvPr/>
        </p:nvPicPr>
        <p:blipFill>
          <a:blip r:embed="rId1"/>
          <a:stretch/>
        </p:blipFill>
        <p:spPr>
          <a:xfrm>
            <a:off x="25560" y="115920"/>
            <a:ext cx="8362800" cy="67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2" descr="Image result for history of atom"/>
          <p:cNvPicPr/>
          <p:nvPr/>
        </p:nvPicPr>
        <p:blipFill>
          <a:blip r:embed="rId1"/>
          <a:stretch/>
        </p:blipFill>
        <p:spPr>
          <a:xfrm>
            <a:off x="41400" y="307800"/>
            <a:ext cx="9102600" cy="643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08600" y="898200"/>
            <a:ext cx="4486320" cy="226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Democritus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(460-360 BC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7" descr="Related image"/>
          <p:cNvPicPr/>
          <p:nvPr/>
        </p:nvPicPr>
        <p:blipFill>
          <a:blip r:embed="rId1"/>
          <a:stretch/>
        </p:blipFill>
        <p:spPr>
          <a:xfrm>
            <a:off x="108000" y="115920"/>
            <a:ext cx="48006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Democritu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ll things are composed of minute, invisible and indivisible particles, atoma, (indivisibles) in constant motion through otherwise empty space, kenon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ristot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28240" y="1988640"/>
            <a:ext cx="51354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gued against atomic theory and believed everything was composed of the 5 eleme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ghly influential for 2000 yea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5" descr="Image result for aristotle"/>
          <p:cNvPicPr/>
          <p:nvPr/>
        </p:nvPicPr>
        <p:blipFill>
          <a:blip r:embed="rId1"/>
          <a:stretch/>
        </p:blipFill>
        <p:spPr>
          <a:xfrm>
            <a:off x="5148360" y="374760"/>
            <a:ext cx="35719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alton 1800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8000" y="1981080"/>
            <a:ext cx="431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emicals are composed of elements combined together in certain propor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lliard bal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del of ato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7" descr="Image result for john dalton billiard ball model"/>
          <p:cNvPicPr/>
          <p:nvPr/>
        </p:nvPicPr>
        <p:blipFill>
          <a:blip r:embed="rId1"/>
          <a:stretch/>
        </p:blipFill>
        <p:spPr>
          <a:xfrm>
            <a:off x="4896000" y="6480"/>
            <a:ext cx="4032000" cy="4032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Image result for john dalton billiard ball model"/>
          <p:cNvPicPr/>
          <p:nvPr/>
        </p:nvPicPr>
        <p:blipFill>
          <a:blip r:embed="rId2"/>
          <a:stretch/>
        </p:blipFill>
        <p:spPr>
          <a:xfrm>
            <a:off x="3995640" y="4181400"/>
            <a:ext cx="352908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Content Placeholder 5" descr="Image result for dalton atomic model"/>
          <p:cNvPicPr/>
          <p:nvPr/>
        </p:nvPicPr>
        <p:blipFill>
          <a:blip r:embed="rId1"/>
          <a:stretch/>
        </p:blipFill>
        <p:spPr>
          <a:xfrm>
            <a:off x="108000" y="1571760"/>
            <a:ext cx="876132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ir Joseph John Thomson 19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alyzed the nature of cathode ray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noticed that they had particle like properties and were identical regardless of the material producing the rays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6" descr="Image result for jj thomson"/>
          <p:cNvPicPr/>
          <p:nvPr/>
        </p:nvPicPr>
        <p:blipFill>
          <a:blip r:embed="rId1"/>
          <a:stretch/>
        </p:blipFill>
        <p:spPr>
          <a:xfrm>
            <a:off x="5076720" y="1125360"/>
            <a:ext cx="3434040" cy="53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lum-Pudding Mod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619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ord Kelvin and JJ Thomson concluded that the atom was composed of tiny negatively charged electrons and positive charge mixed together. This was called the Plum-Pudding Model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1T20:47:02Z</dcterms:created>
  <dc:creator>Sir Winston Churchill Secondary</dc:creator>
  <dc:description/>
  <dc:language>en-US</dc:language>
  <cp:lastModifiedBy>Adam Mathew Klaassen</cp:lastModifiedBy>
  <dcterms:modified xsi:type="dcterms:W3CDTF">2017-03-29T20:34:31Z</dcterms:modified>
  <cp:revision>56</cp:revision>
  <dc:subject/>
  <dc:title>Sir Joseph John Thompson</dc:title>
</cp:coreProperties>
</file>